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C94B-48D3-4A06-B9BA-3887EF8080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61A7-8121-4971-848E-586D15198EC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91DC-067C-4C5C-94E9-13A4F0323DB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33240"/>
                <a:tab algn="l" pos="1268280"/>
                <a:tab algn="l" pos="1903320"/>
                <a:tab algn="l" pos="2538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24EB-A107-408C-8A06-5DB003BEE6C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4F24-87EE-4BE4-9644-43454ADF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878-EAE2-47FC-BEFF-99A27ABC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1B22-1F84-4210-8FA4-5299D790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7C3C-A6EA-46EF-8ECA-F150067C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5333-9373-4A8F-8630-DDABEF07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5910-A9C5-4257-9192-FC69546E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B226-26C5-411E-8216-5AF5B655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B5E2-C517-4BF9-BE24-CE25D4FE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1E72-7995-44C8-A9D4-31998147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080F-F1E1-4897-BDBB-97C91060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ED5F-ED53-441E-BF50-2946104F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4377-3D16-4BED-9F11-BE2FE0B5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F1C1-3134-4583-B20B-17464048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16F3-B086-4229-860D-FBB91369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5831-F82C-4EAD-8E4C-ECFF717F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051E-70CE-4E8E-B689-6164BEDA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232F-A3D3-4685-BEAA-735D232D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8D59E-76A7-4DC6-8B2C-5EE6BA75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30183-DCF2-40DB-8DEF-1D029925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543B6-C5FD-47F8-BE4E-EBDABF1D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FE14E-A9A9-4443-AB0E-5A771DE2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7A66D-C6EC-486C-B79A-48140A26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1CFB-7C2C-4311-A102-51DF9390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0BFA7-B9C0-4D47-A709-1A29F6E5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8E70F-9265-4160-9383-628841E7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E7D00-FB8B-42DD-A069-186F904C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A18DD-6759-4094-8889-0E70CAE5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EF797-B07B-4A95-B2DC-4563F8C0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5C99E-B9D1-45C6-9F0D-CEE46247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B1CB9-B132-43C6-9C3F-030CC251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F8BA6-00D9-4C5F-BB22-34DD530C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4380D-8C84-4A05-9EE8-7C256766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D7F51-873D-4432-A0A9-A0069C0D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45AE-6127-460C-814D-1E288A37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3668C-8AAA-4806-B852-AEE6ACE3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E17F9-02C1-4B49-A192-53980A1A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60E24-5340-4B71-B202-E93744AB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4C183-03CF-48F9-8519-92949714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216A0-5E16-49E1-9A89-7ACDA00C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9D4F6-836E-4880-8B9C-64AEB16D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7FDD3-05A0-46FF-BC92-E4B33804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68CC2-AE50-42EC-8FF7-05A294E6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313A8-7480-4C33-A22F-9C2F717F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5CD12-575B-4C41-B617-397C7DED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DCD-877A-4B0D-ACBC-1B7E5525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63E71-5563-4AEE-B18C-31F57BA3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B00AC-4AFF-4664-A3AF-012D8F4D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47993-E2C5-4A77-B150-80037E9B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5A786-7618-4F1C-9B6E-3A452ACD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C884F-B1E4-43A9-AB0F-A89D7477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B11A4-7A2E-43CD-A3B7-F49DB970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A4C4B-A548-47E8-B714-7485D699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FC13A-339A-4E25-8E72-AF7B956B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C82B9-4EDA-40A2-9511-3884C3FB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4D6D6-C380-4971-BD1A-AB50AC61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66BD-0998-437A-AEB2-327393A1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44AB3-6AF2-41C3-86E3-5B549DC3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91CB-3FD2-4B4C-99AD-64B1F00B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DA61-C172-4CD2-A480-9D6392C8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5106-03B1-4FDE-8E86-3D945D55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8D3C-49F0-4BC5-B801-CFAFE5C7A549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7E30-3D72-452B-B8ED-036CFE555662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1BE7-C264-42C4-B6E2-37170F392C4C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14A1-7334-4461-8FD6-F44640ED9698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F500-315A-4561-9017-09D148BB703D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1B92-4CDE-48BB-B7CA-9C95B8F638D9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CD2E-EC7B-49D9-97D7-87F6766D9556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8C74-E1F0-407C-B271-ABEC9A1A8304}" type="slidenum">
              <a:rPr b="0" lang="ru-RU" sz="1600" spc="-1" strike="noStrike">
                <a:solidFill>
                  <a:srgbClr val="434342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E3AD-62BF-4B98-8C56-840C9CDB7B48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9A67-1C63-4D4D-BF1F-17E4206D707F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РОБОТОТЕХНИК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В  НАЧАЛЬНОЙ ШКОЛ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250920" y="2690640"/>
            <a:ext cx="87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Прямоугольник 5"/>
          <p:cNvSpPr/>
          <p:nvPr/>
        </p:nvSpPr>
        <p:spPr>
          <a:xfrm>
            <a:off x="357120" y="4714920"/>
            <a:ext cx="878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а работу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байкина Татьяна Владимировна,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е бюджет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 Кузнецк, 202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5" name="Рисунок 2" descr=""/>
          <p:cNvPicPr/>
          <p:nvPr/>
        </p:nvPicPr>
        <p:blipFill>
          <a:blip r:embed="rId1"/>
          <a:stretch/>
        </p:blipFill>
        <p:spPr>
          <a:xfrm>
            <a:off x="1873080" y="1090440"/>
            <a:ext cx="55404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13" descr="3.jpg"/>
          <p:cNvPicPr/>
          <p:nvPr/>
        </p:nvPicPr>
        <p:blipFill>
          <a:blip r:embed="rId1"/>
          <a:stretch/>
        </p:blipFill>
        <p:spPr>
          <a:xfrm>
            <a:off x="6329520" y="3424320"/>
            <a:ext cx="2743200" cy="1647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6e94"/>
                </a:solidFill>
                <a:latin typeface="Arial Black"/>
              </a:rPr>
              <a:t>ПРОГРАММ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6" name="Скругленный прямоугольник 8"/>
          <p:cNvSpPr/>
          <p:nvPr/>
        </p:nvSpPr>
        <p:spPr>
          <a:xfrm>
            <a:off x="3500280" y="2857680"/>
            <a:ext cx="2143440" cy="2714400"/>
          </a:xfrm>
          <a:custGeom>
            <a:avLst/>
            <a:gdLst>
              <a:gd name="textAreaLeft" fmla="*/ 104400 w 2143440"/>
              <a:gd name="textAreaRight" fmla="*/ 2039040 w 2143440"/>
              <a:gd name="textAreaTop" fmla="*/ 104400 h 2714400"/>
              <a:gd name="textAreaBottom" fmla="*/ 2610000 h 2714400"/>
            </a:gdLst>
            <a:ahLst/>
            <a:rect l="textAreaLeft" t="textAreaTop" r="textAreaRight" b="textAreaBottom"/>
            <a:pathLst>
              <a:path w="21600" h="27353">
                <a:moveTo>
                  <a:pt x="3600" y="0"/>
                </a:moveTo>
                <a:arcTo wR="3600" hR="3600" stAng="16200000" swAng="-5400000"/>
                <a:lnTo>
                  <a:pt x="0" y="23753"/>
                </a:lnTo>
                <a:arcTo wR="3600" hR="3600" stAng="10800000" swAng="-5400000"/>
                <a:lnTo>
                  <a:pt x="18000" y="273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1dffb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евая аудитория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и от 5 лет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2571840" y="1500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8" name="Рисунок 11" descr="1.jpg"/>
          <p:cNvPicPr/>
          <p:nvPr/>
        </p:nvPicPr>
        <p:blipFill>
          <a:blip r:embed="rId2"/>
          <a:stretch/>
        </p:blipFill>
        <p:spPr>
          <a:xfrm>
            <a:off x="2928960" y="957240"/>
            <a:ext cx="3224160" cy="1828800"/>
          </a:xfrm>
          <a:prstGeom prst="rect">
            <a:avLst/>
          </a:prstGeom>
          <a:ln w="0">
            <a:noFill/>
          </a:ln>
        </p:spPr>
      </p:pic>
      <p:sp>
        <p:nvSpPr>
          <p:cNvPr id="259" name="Скругленный прямоугольник 9"/>
          <p:cNvSpPr/>
          <p:nvPr/>
        </p:nvSpPr>
        <p:spPr>
          <a:xfrm>
            <a:off x="5857920" y="928800"/>
            <a:ext cx="2928960" cy="2714400"/>
          </a:xfrm>
          <a:prstGeom prst="roundRect">
            <a:avLst>
              <a:gd name="adj" fmla="val 16667"/>
            </a:avLst>
          </a:prstGeom>
          <a:solidFill>
            <a:srgbClr val="91a7c4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 часов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блока по 24 занятия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Рисунок 12" descr="2.jpg"/>
          <p:cNvPicPr/>
          <p:nvPr/>
        </p:nvPicPr>
        <p:blipFill>
          <a:blip r:embed="rId3"/>
          <a:stretch/>
        </p:blipFill>
        <p:spPr>
          <a:xfrm>
            <a:off x="0" y="3624120"/>
            <a:ext cx="2438280" cy="1447920"/>
          </a:xfrm>
          <a:prstGeom prst="rect">
            <a:avLst/>
          </a:prstGeom>
          <a:ln w="0">
            <a:noFill/>
          </a:ln>
        </p:spPr>
      </p:pic>
      <p:sp>
        <p:nvSpPr>
          <p:cNvPr id="261" name="Скругленный прямоугольник 7"/>
          <p:cNvSpPr/>
          <p:nvPr/>
        </p:nvSpPr>
        <p:spPr>
          <a:xfrm>
            <a:off x="357120" y="1071720"/>
            <a:ext cx="2928960" cy="2714400"/>
          </a:xfrm>
          <a:prstGeom prst="roundRect">
            <a:avLst>
              <a:gd name="adj" fmla="val 16667"/>
            </a:avLst>
          </a:prstGeom>
          <a:solidFill>
            <a:srgbClr val="f96a1b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рудование: ПК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o WeD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ор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ран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2" name="Picture 11" descr=""/>
          <p:cNvPicPr/>
          <p:nvPr/>
        </p:nvPicPr>
        <p:blipFill>
          <a:blip r:embed="rId4"/>
          <a:stretch/>
        </p:blipFill>
        <p:spPr>
          <a:xfrm>
            <a:off x="7524720" y="5300640"/>
            <a:ext cx="142704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713880" y="285480"/>
            <a:ext cx="766476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структор LEGO Education WeDo дает возможность ученикам собрать и запрограммировать простые модели LEGO через приложения в компьютере. В наборе 158 элементов, в том числе двигатель, датчики движения и положения, а также LEGO USB Hub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коммутатор). Совмещая программное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и учебное пособие,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жно выполнить 12 тематических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й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Рисунок 5" descr="http://cache.lego.com/r/education/-/media/LEGO%20Education/Home/Images/Products/WeDo/ts.20100922T104512.9580_713x380_MainProduct.png"/>
          <p:cNvPicPr/>
          <p:nvPr/>
        </p:nvPicPr>
        <p:blipFill>
          <a:blip r:embed="rId1"/>
          <a:stretch/>
        </p:blipFill>
        <p:spPr>
          <a:xfrm>
            <a:off x="4788000" y="2133720"/>
            <a:ext cx="5284800" cy="2811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2"/>
          <a:stretch/>
        </p:blipFill>
        <p:spPr>
          <a:xfrm>
            <a:off x="7524720" y="5300640"/>
            <a:ext cx="142704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06e94"/>
                </a:solidFill>
                <a:latin typeface="Arial Black"/>
              </a:rPr>
              <a:t>ТЕМАТИЧЕСКИЙ БЛОК "ЖИВОТНЫЙ МИР":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57160" y="907560"/>
            <a:ext cx="75218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нцующие птичк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езьянка-барабанщиц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олодный аллигатор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рхающая птиц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ычащий лев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кротител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йка-барабанщик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Лягушка-квакушк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Жар-птиц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олшебные рыбк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нцующие утята и пингвинят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езьянки на карусел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7667640" y="5445000"/>
            <a:ext cx="106200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ПРЕДПОЛАГАЕМЫЙ РЕЗУЛЬТАТ</a:t>
            </a:r>
            <a:br>
              <a:rPr sz="2800"/>
            </a:b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ДЕТЕЙ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57160" y="1125000"/>
            <a:ext cx="457848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мышления, навыков конструирования и программирования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ворческого мышления и изобретательности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елкой моторики, внимания, аккуратности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я мотивации к созданию собственных разработок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иск качественного результата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ответственности при командной работе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гры и состязания в результате в целях к мотивации к обучению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427040" cy="1420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5630760" y="1484280"/>
            <a:ext cx="31147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ПРЕДПОЛАГАЕМЫЙ РЕЗУЛЬТАТ ВЗРОСЛЫХ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56800" y="1125000"/>
            <a:ext cx="796284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меть представление: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о роботах в России и мире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о межпредметных связях робототехники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рамках ФГОС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о перспективах развития робототехники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о методических основах проектной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и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нание основных направлений образования робототехники и основных международных робототехнических стандартах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планировать виды деятельности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основными понятиями образовательной робототехники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материальными знаниями: название деталей, моделей роботов, основами программирования.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42704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0" y="907920"/>
            <a:ext cx="914400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, Конструктор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ЕГО помогает детям и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зрослым воплощать в жизнь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вои идеи, строить  и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антазировать, увлечённо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ботая и видя конечный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7" name="Picture 7" descr="G:\Camera\IMG_20141111_113151.jpg"/>
          <p:cNvPicPr/>
          <p:nvPr/>
        </p:nvPicPr>
        <p:blipFill>
          <a:blip r:embed="rId1"/>
          <a:stretch/>
        </p:blipFill>
        <p:spPr>
          <a:xfrm>
            <a:off x="5508720" y="260280"/>
            <a:ext cx="3432240" cy="45766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"/>
          <p:cNvPicPr/>
          <p:nvPr/>
        </p:nvPicPr>
        <p:blipFill>
          <a:blip r:embed="rId2"/>
          <a:stretch/>
        </p:blipFill>
        <p:spPr>
          <a:xfrm>
            <a:off x="7502400" y="5229360"/>
            <a:ext cx="1427400" cy="142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Объект 1" descr=""/>
          <p:cNvPicPr/>
          <p:nvPr/>
        </p:nvPicPr>
        <p:blipFill>
          <a:blip r:embed="rId1"/>
          <a:stretch/>
        </p:blipFill>
        <p:spPr>
          <a:xfrm>
            <a:off x="723960" y="606600"/>
            <a:ext cx="7043760" cy="44780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506e94"/>
              </a:solidFill>
              <a:latin typeface="Arial Black"/>
            </a:endParaRPr>
          </a:p>
        </p:txBody>
      </p:sp>
      <p:pic>
        <p:nvPicPr>
          <p:cNvPr id="228" name="Объект 4" descr=""/>
          <p:cNvPicPr/>
          <p:nvPr/>
        </p:nvPicPr>
        <p:blipFill>
          <a:blip r:embed="rId2"/>
          <a:stretch/>
        </p:blipFill>
        <p:spPr>
          <a:xfrm>
            <a:off x="6699240" y="5326200"/>
            <a:ext cx="24130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КТО ТАКОЙ РОБОТ?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57160" y="856800"/>
            <a:ext cx="752184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1" name="Рисунок 2" descr=""/>
          <p:cNvPicPr/>
          <p:nvPr/>
        </p:nvPicPr>
        <p:blipFill>
          <a:blip r:embed="rId1"/>
          <a:srcRect l="0" t="15107" r="0" b="0"/>
          <a:stretch/>
        </p:blipFill>
        <p:spPr>
          <a:xfrm>
            <a:off x="1363680" y="914400"/>
            <a:ext cx="6438960" cy="4098960"/>
          </a:xfrm>
          <a:prstGeom prst="rect">
            <a:avLst/>
          </a:prstGeom>
          <a:ln w="0">
            <a:noFill/>
          </a:ln>
        </p:spPr>
      </p:pic>
      <p:pic>
        <p:nvPicPr>
          <p:cNvPr id="232" name="Объект 4" descr=""/>
          <p:cNvPicPr/>
          <p:nvPr/>
        </p:nvPicPr>
        <p:blipFill>
          <a:blip r:embed="rId2"/>
          <a:stretch/>
        </p:blipFill>
        <p:spPr>
          <a:xfrm>
            <a:off x="6699240" y="5326200"/>
            <a:ext cx="24130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РОБОТЫ ЖИВОТНЫ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4" name="Объект 2" descr=""/>
          <p:cNvPicPr/>
          <p:nvPr/>
        </p:nvPicPr>
        <p:blipFill>
          <a:blip r:embed="rId1"/>
          <a:stretch/>
        </p:blipFill>
        <p:spPr>
          <a:xfrm>
            <a:off x="1117440" y="1125360"/>
            <a:ext cx="3365640" cy="1872000"/>
          </a:xfrm>
          <a:prstGeom prst="rect">
            <a:avLst/>
          </a:prstGeom>
          <a:ln w="0">
            <a:noFill/>
          </a:ln>
        </p:spPr>
      </p:pic>
      <p:pic>
        <p:nvPicPr>
          <p:cNvPr id="235" name="Объект 4" descr=""/>
          <p:cNvPicPr/>
          <p:nvPr/>
        </p:nvPicPr>
        <p:blipFill>
          <a:blip r:embed="rId2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3" descr=""/>
          <p:cNvPicPr/>
          <p:nvPr/>
        </p:nvPicPr>
        <p:blipFill>
          <a:blip r:embed="rId3"/>
          <a:srcRect l="12986" t="0" r="19290" b="0"/>
          <a:stretch/>
        </p:blipFill>
        <p:spPr>
          <a:xfrm>
            <a:off x="5402160" y="914400"/>
            <a:ext cx="3113280" cy="25858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5" descr=""/>
          <p:cNvPicPr/>
          <p:nvPr/>
        </p:nvPicPr>
        <p:blipFill>
          <a:blip r:embed="rId4"/>
          <a:srcRect l="12706" t="0" r="23621" b="8164"/>
          <a:stretch/>
        </p:blipFill>
        <p:spPr>
          <a:xfrm>
            <a:off x="684360" y="3208320"/>
            <a:ext cx="3456000" cy="31431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6" descr=""/>
          <p:cNvPicPr/>
          <p:nvPr/>
        </p:nvPicPr>
        <p:blipFill>
          <a:blip r:embed="rId5"/>
          <a:srcRect l="1962" t="22000" r="1962" b="12201"/>
          <a:stretch/>
        </p:blipFill>
        <p:spPr>
          <a:xfrm>
            <a:off x="4583160" y="3500280"/>
            <a:ext cx="42019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506e94"/>
              </a:solidFill>
              <a:latin typeface="Arial Black"/>
            </a:endParaRPr>
          </a:p>
        </p:txBody>
      </p:sp>
      <p:pic>
        <p:nvPicPr>
          <p:cNvPr id="240" name="Объект 2" descr=""/>
          <p:cNvPicPr/>
          <p:nvPr/>
        </p:nvPicPr>
        <p:blipFill>
          <a:blip r:embed="rId1"/>
          <a:stretch/>
        </p:blipFill>
        <p:spPr>
          <a:xfrm>
            <a:off x="1116000" y="7920"/>
            <a:ext cx="6699240" cy="5024520"/>
          </a:xfrm>
          <a:prstGeom prst="rect">
            <a:avLst/>
          </a:prstGeom>
          <a:ln w="0">
            <a:noFill/>
          </a:ln>
        </p:spPr>
      </p:pic>
      <p:pic>
        <p:nvPicPr>
          <p:cNvPr id="241" name="Объект 4" descr=""/>
          <p:cNvPicPr/>
          <p:nvPr/>
        </p:nvPicPr>
        <p:blipFill>
          <a:blip r:embed="rId2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АЛГОРИТМ РАБОТЫ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57160" y="907920"/>
            <a:ext cx="752184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4" name="Объект 4" descr=""/>
          <p:cNvPicPr/>
          <p:nvPr/>
        </p:nvPicPr>
        <p:blipFill>
          <a:blip r:embed="rId1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2" descr=""/>
          <p:cNvPicPr/>
          <p:nvPr/>
        </p:nvPicPr>
        <p:blipFill>
          <a:blip r:embed="rId2"/>
          <a:srcRect l="0" t="0" r="0" b="13250"/>
          <a:stretch/>
        </p:blipFill>
        <p:spPr>
          <a:xfrm>
            <a:off x="1751040" y="907920"/>
            <a:ext cx="48020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57160" y="2286000"/>
            <a:ext cx="77155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Arial Black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7" name="Объект 4" descr=""/>
          <p:cNvPicPr/>
          <p:nvPr/>
        </p:nvPicPr>
        <p:blipFill>
          <a:blip r:embed="rId1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ИНТЕРГАЦИЯ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57160" y="1699920"/>
            <a:ext cx="7521840" cy="34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нструирование;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атематика;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речи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0" name="Picture 4" descr="C:\Users\KOTYA\Desktop\1394011927_0848.1000x800.jpeg"/>
          <p:cNvPicPr/>
          <p:nvPr/>
        </p:nvPicPr>
        <p:blipFill>
          <a:blip r:embed="rId1"/>
          <a:stretch/>
        </p:blipFill>
        <p:spPr>
          <a:xfrm>
            <a:off x="4572000" y="1484280"/>
            <a:ext cx="4321080" cy="3219480"/>
          </a:xfrm>
          <a:prstGeom prst="rect">
            <a:avLst/>
          </a:prstGeom>
          <a:ln w="0">
            <a:noFill/>
          </a:ln>
        </p:spPr>
      </p:pic>
      <p:pic>
        <p:nvPicPr>
          <p:cNvPr id="251" name="Объект 4" descr=""/>
          <p:cNvPicPr/>
          <p:nvPr/>
        </p:nvPicPr>
        <p:blipFill>
          <a:blip r:embed="rId2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26920" y="260280"/>
            <a:ext cx="752184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Данный конструктор позволяет детям работать в качестве юных исследователей, инженеров, математиков. Ребята собирают и программируют действующие модели, а затем используют их для выполнения задач, по сути являющихся упражнениями из образовательных областей: социально-коммуникативные, познавательное и речевое развитие.</a:t>
            </a: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42704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3:21:41Z</dcterms:created>
  <dc:creator>1</dc:creator>
  <dc:description/>
  <dc:language>en-US</dc:language>
  <cp:lastModifiedBy>Пользователь</cp:lastModifiedBy>
  <dcterms:modified xsi:type="dcterms:W3CDTF">2020-08-25T11:35:40Z</dcterms:modified>
  <cp:revision>60</cp:revision>
  <dc:subject/>
  <dc:title>Реализация общеинтеллектуального направления на внеурочных занятиях с помощью конструктора  lego education wedo</dc:title>
</cp:coreProperties>
</file>